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9BBD-57FA-4C79-A0C0-509D80B04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7363-6EFE-482E-8295-F9979C848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19D3-9857-4A20-88B1-1F79D1709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AC2A-68E2-4D23-B2F8-0004FE072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B843-26EF-4BD3-A726-AB64E27C8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B307-612F-46D8-AF14-0E0F87FCC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B2E2-8D86-4C76-B836-CB178A297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6531-D44D-4105-B8C5-0E2BE6350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BE93-9690-471F-958F-454ABC463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7AF4-9289-4B84-B0FE-54389196A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6B4B-3DC1-4208-A761-EA3EBF5F9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8430-B65F-4046-B09F-8B58C9D63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8E2A-5713-4A21-899F-FAEF716DB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837D9-7BF5-4DBF-B77F-D4D531B38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00D5-1324-4BDF-87CA-0CCA6F217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E93E8-4F4C-4336-84E3-4F7CA8FBC9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477A-9B76-4F05-9DAB-6F7B1A02B0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5C29-CECF-4F63-8F0B-AF9723F83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1117-19F1-4747-AB50-79E1A608B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E073-1AF2-4E9D-BB04-5E36CC50D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086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5C5F-B9DD-40C8-A3C2-C0D55AA12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A578C-15A3-4F99-BDA1-CB6DEB08A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9C77B-3059-47D4-8725-6DDE9D9E0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004D-3681-451E-8C11-79C4760C7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1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07696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CB0BA65D-6EFC-4D7F-A525-7E93C9DA9A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380880" y="646200"/>
            <a:ext cx="609840" cy="503280"/>
          </a:xfrm>
          <a:prstGeom prst="rect">
            <a:avLst/>
          </a:prstGeom>
          <a:solidFill>
            <a:srgbClr val="ed6b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4F171ACD-1052-4FDA-9460-6F51F3406F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2"/>
          <p:cNvSpPr/>
          <p:nvPr/>
        </p:nvSpPr>
        <p:spPr>
          <a:xfrm>
            <a:off x="4267080" y="4038480"/>
            <a:ext cx="4800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amir ne veut pas que son père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ait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o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3" descr="DAC3_p196"/>
          <p:cNvPicPr/>
          <p:nvPr/>
        </p:nvPicPr>
        <p:blipFill>
          <a:blip r:embed="rId1"/>
          <a:stretch/>
        </p:blipFill>
        <p:spPr>
          <a:xfrm>
            <a:off x="762120" y="1838160"/>
            <a:ext cx="350496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1566B8FC-5F93-43FE-A84D-412C3694B1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spcBef>
                <a:spcPts val="751"/>
              </a:spcBef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main clause of a sentence expresses will or emotion, use the subjunctive in the subordinate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80880" y="2514600"/>
            <a:ext cx="8382240" cy="235728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marL="801720">
              <a:tabLst>
                <a:tab algn="l" pos="0"/>
                <a:tab algn="l" pos="479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pressions of will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pressions of emo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380880" y="3809880"/>
            <a:ext cx="8382240" cy="259092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80880" y="3019320"/>
            <a:ext cx="8382240" cy="178128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3035160"/>
          <a:ext cx="8382240" cy="336564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3365640">
                <a:tc>
                  <a:txBody>
                    <a:bodyPr lIns="45720" rIns="45720" tIns="137160" bIns="46800" anchor="t">
                      <a:noAutofit/>
                    </a:bodyPr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sk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sir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sire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g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emand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fér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efer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pose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and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commend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hait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ope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gér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ggest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loi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want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13680">
                      <a:solidFill>
                        <a:srgbClr val="3c68a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137160" bIns="46800" anchor="t">
                      <a:noAutofit/>
                    </a:bodyPr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m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ike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 peu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fraid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 content(e)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happy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 désolé(e)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sorry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 étonné(e)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surprised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 fâché(e)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mad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 fier/fière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proud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 ravi(e)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delighted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4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retter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gret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3c68a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E106CF21-7C0E-4684-BDC3-67E89EF441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23960" y="1692360"/>
          <a:ext cx="7696080" cy="295092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1544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253548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verb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e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often used with an indirect object +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[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e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312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a nous demande de rentrer </a:t>
                      </a:r>
                      <a:br>
                        <a:rPr sz="2100"/>
                      </a:b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t minui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d is asking us to come home </a:t>
                      </a:r>
                      <a:br>
                        <a:rPr sz="2100"/>
                      </a:b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midnigh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5D9E9E1D-FE16-494D-9F21-7819F6DEA6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120" y="1905120"/>
          <a:ext cx="8076960" cy="1904760"/>
        </p:xfrm>
        <a:graphic>
          <a:graphicData uri="http://schemas.openxmlformats.org/drawingml/2006/table">
            <a:tbl>
              <a:tblPr/>
              <a:tblGrid>
                <a:gridCol w="4190760"/>
                <a:gridCol w="3886200"/>
              </a:tblGrid>
              <a:tr h="190476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re grand-pèr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sire qu’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lu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nd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ite cet été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 grandfather wants us to vis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 this summer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is ravie qu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ion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z notre oncl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’m delighted that we’re going t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 uncle’s hous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46ABEA9D-D201-4ADE-9947-8235C486D4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ver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ér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es emotion, it does not trigger the sub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2666880"/>
          <a:ext cx="8534160" cy="1905120"/>
        </p:xfrm>
        <a:graphic>
          <a:graphicData uri="http://schemas.openxmlformats.org/drawingml/2006/table">
            <a:tbl>
              <a:tblPr/>
              <a:tblGrid>
                <a:gridCol w="4114800"/>
                <a:gridCol w="4419360"/>
              </a:tblGrid>
              <a:tr h="190512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’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ère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le nouveau prof n’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 trop stric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hope that the new teacher isn’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o stric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u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érons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’ils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t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 citron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à la supérett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hope they have lemons a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mini-marke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39D0441C-E735-432F-90D6-B7255DAEA4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da9"/>
                </a:solidFill>
                <a:latin typeface="Arial"/>
              </a:rPr>
              <a:t>Forms of the present subjun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already been using verb tenses in the indicative mood. You can also use French verbs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jun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d, which is used to express an attitude, an opinion, or personal will, or to imply hypothesis or doub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858B0CC5-6E4B-4B98-AF33-24CE2C99FB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spcBef>
                <a:spcPts val="751"/>
              </a:spcBef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orm the present subjunctive of most verbs, tak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s/el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m of the present indicative and add the subjunctive endings.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se thei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arfa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FA6F8E72-833D-4C3A-9D0A-6EFA9FB704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743040" y="1566720"/>
            <a:ext cx="7657920" cy="254808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</a:rPr>
              <a:t>The present subjunct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743040" y="2895480"/>
            <a:ext cx="7657920" cy="274320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43040" y="2104920"/>
            <a:ext cx="7657920" cy="162900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43040" y="2108160"/>
          <a:ext cx="7638840" cy="3535560"/>
        </p:xfrm>
        <a:graphic>
          <a:graphicData uri="http://schemas.openxmlformats.org/drawingml/2006/table">
            <a:tbl>
              <a:tblPr/>
              <a:tblGrid>
                <a:gridCol w="1909800"/>
                <a:gridCol w="1909800"/>
                <a:gridCol w="1909440"/>
                <a:gridCol w="1909800"/>
              </a:tblGrid>
              <a:tr h="439560">
                <a:tc>
                  <a:txBody>
                    <a:bodyPr lIns="228600" rIns="90000" tIns="46800" bIns="46800" anchor="ctr">
                      <a:noAutofit/>
                    </a:bodyPr>
                    <a:p>
                      <a:pPr marL="11448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8600" marR="90000">
                    <a:lnL>
                      <a:noFill/>
                    </a:lnL>
                    <a:lnR w="13680">
                      <a:solidFill>
                        <a:srgbClr val="3c68a6"/>
                      </a:solidFill>
                    </a:lnR>
                    <a:lnT>
                      <a:noFill/>
                    </a:lnT>
                    <a:lnB w="13680">
                      <a:solidFill>
                        <a:srgbClr val="507bb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c68a6"/>
                      </a:solidFill>
                    </a:lnL>
                    <a:lnR w="13680">
                      <a:solidFill>
                        <a:srgbClr val="3c68a6"/>
                      </a:solidFill>
                    </a:lnR>
                    <a:lnT>
                      <a:noFill/>
                    </a:lnT>
                    <a:lnB w="13680">
                      <a:solidFill>
                        <a:srgbClr val="507bb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c68a6"/>
                      </a:solidFill>
                    </a:lnL>
                    <a:lnR w="13680">
                      <a:solidFill>
                        <a:srgbClr val="3c68a6"/>
                      </a:solidFill>
                    </a:lnR>
                    <a:lnT>
                      <a:noFill/>
                    </a:lnT>
                    <a:lnB w="13680">
                      <a:solidFill>
                        <a:srgbClr val="507bb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c68a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507bb6"/>
                      </a:solidFill>
                    </a:lnB>
                    <a:noFill/>
                  </a:tcPr>
                </a:tc>
              </a:tr>
              <a:tr h="3096000">
                <a:tc>
                  <a:txBody>
                    <a:bodyPr lIns="90000" rIns="90000" tIns="228600" bIns="91440" anchor="t">
                      <a:noAutofit/>
                    </a:bodyPr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je/j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il/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 v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’ils/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c68a6"/>
                      </a:solidFill>
                    </a:lnR>
                    <a:lnT w="13680">
                      <a:solidFill>
                        <a:srgbClr val="507bb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91440" anchor="t">
                      <a:noAutofit/>
                    </a:bodyPr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par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par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parli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c68a6"/>
                      </a:solidFill>
                    </a:lnL>
                    <a:lnR w="13680">
                      <a:solidFill>
                        <a:srgbClr val="3c68a6"/>
                      </a:solidFill>
                    </a:lnR>
                    <a:lnT w="13680">
                      <a:solidFill>
                        <a:srgbClr val="507bb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91440" anchor="t">
                      <a:noAutofit/>
                    </a:bodyPr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finis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ss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ss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ss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fini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finissi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ss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c68a6"/>
                      </a:solidFill>
                    </a:lnL>
                    <a:lnR w="13680">
                      <a:solidFill>
                        <a:srgbClr val="3c68a6"/>
                      </a:solidFill>
                    </a:lnR>
                    <a:lnT w="13680">
                      <a:solidFill>
                        <a:srgbClr val="507bb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28600" bIns="91440" anchor="t">
                      <a:noAutofit/>
                    </a:bodyPr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ttend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</a:t>
                      </a:r>
                      <a:r>
                        <a:rPr b="1" lang="fr-FR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</a:t>
                      </a:r>
                      <a:r>
                        <a:rPr b="1" lang="fr-FR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</a:t>
                      </a:r>
                      <a:r>
                        <a:rPr b="1" lang="fr-FR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ttend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ttendi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d</a:t>
                      </a:r>
                      <a:r>
                        <a:rPr b="1" lang="fr-FR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c68a6"/>
                      </a:solidFill>
                    </a:lnL>
                    <a:lnR>
                      <a:noFill/>
                    </a:lnR>
                    <a:lnT w="13680">
                      <a:solidFill>
                        <a:srgbClr val="507bb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Line 61"/>
          <p:cNvSpPr/>
          <p:nvPr/>
        </p:nvSpPr>
        <p:spPr>
          <a:xfrm>
            <a:off x="3265560" y="29574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2"/>
          <p:cNvSpPr/>
          <p:nvPr/>
        </p:nvSpPr>
        <p:spPr>
          <a:xfrm>
            <a:off x="5342040" y="296064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3"/>
          <p:cNvSpPr/>
          <p:nvPr/>
        </p:nvSpPr>
        <p:spPr>
          <a:xfrm>
            <a:off x="7356600" y="295596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DCD54634-F107-44AD-AE84-342E97328D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spcBef>
                <a:spcPts val="751"/>
              </a:spcBef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pattern to form the subjunctive of verbs with spelling or stem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11360" y="2743200"/>
          <a:ext cx="8001000" cy="1600200"/>
        </p:xfrm>
        <a:graphic>
          <a:graphicData uri="http://schemas.openxmlformats.org/drawingml/2006/table">
            <a:tbl>
              <a:tblPr/>
              <a:tblGrid>
                <a:gridCol w="1726920"/>
                <a:gridCol w="6274080"/>
              </a:tblGrid>
              <a:tr h="161892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d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èt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chèt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chèt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che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achetiez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chèt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i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roi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roi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croy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croyiez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roi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n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prenn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prenn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pren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preniez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prenn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çoiv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reçoiv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reçoiv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recev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receviez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reçoiv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81" descr="p101"/>
          <p:cNvPicPr/>
          <p:nvPr/>
        </p:nvPicPr>
        <p:blipFill>
          <a:blip r:embed="rId1"/>
          <a:stretch/>
        </p:blipFill>
        <p:spPr>
          <a:xfrm>
            <a:off x="1535040" y="2874960"/>
            <a:ext cx="7383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5C5BC1E4-9771-472D-93E5-9EBB87DC2C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spcBef>
                <a:spcPts val="751"/>
              </a:spcBef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rbs are unpredictably irregular in the present sub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11360" y="2666880"/>
          <a:ext cx="8038800" cy="2835360"/>
        </p:xfrm>
        <a:graphic>
          <a:graphicData uri="http://schemas.openxmlformats.org/drawingml/2006/table">
            <a:tbl>
              <a:tblPr/>
              <a:tblGrid>
                <a:gridCol w="1714320"/>
                <a:gridCol w="6324480"/>
              </a:tblGrid>
              <a:tr h="286956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v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lo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lle, ailles, aille, allions, alliez, ail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e, aies, ait, ayons, ayez, a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is, sois, soit, soyons, soyez, so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se, fasses, fasse, fassions, fassiez, fas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isse, puisses, puisse, puissions, puissiez, puis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che, saches, sache, sachions, sachiez, sach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uille, veuilles, veuille, voulions, vouliez, veuil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81" descr="p101"/>
          <p:cNvPicPr/>
          <p:nvPr/>
        </p:nvPicPr>
        <p:blipFill>
          <a:blip r:embed="rId1"/>
          <a:stretch/>
        </p:blipFill>
        <p:spPr>
          <a:xfrm>
            <a:off x="1523880" y="3452760"/>
            <a:ext cx="7383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BA5CCE3B-10BC-45BA-B2F4-7D11211303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da9"/>
                </a:solidFill>
                <a:latin typeface="Arial"/>
              </a:rPr>
              <a:t>Impersonal expressions and verbs of will and e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 calling for the subjunctive fit the patter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in 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ordinate 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 In each case, the subjects of the two clauses are different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to connect the clauses. Note that although the wor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tional in English, the wor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omitted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11360" y="4648320"/>
          <a:ext cx="8305560" cy="1676160"/>
        </p:xfrm>
        <a:graphic>
          <a:graphicData uri="http://schemas.openxmlformats.org/drawingml/2006/table">
            <a:tbl>
              <a:tblPr/>
              <a:tblGrid>
                <a:gridCol w="2171520"/>
                <a:gridCol w="1714680"/>
                <a:gridCol w="4419360"/>
              </a:tblGrid>
              <a:tr h="167616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AIN CLA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e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étonn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surpri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NN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UBORDINA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LA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erry ne </a:t>
                      </a:r>
                      <a:r>
                        <a:rPr b="1" lang="en-US" sz="1800" spc="-1" strike="noStrike">
                          <a:solidFill>
                            <a:srgbClr val="eb5737"/>
                          </a:solidFill>
                          <a:latin typeface="Arial"/>
                        </a:rPr>
                        <a:t>connais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s ses par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erry doesn’t know his par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8688F60A-F47E-4CDF-9E8A-796DFAB784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7627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28600">
              <a:spcBef>
                <a:spcPts val="751"/>
              </a:spcBef>
              <a:buClr>
                <a:srgbClr val="ed6b4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junctive is used after many impersonal expressions that state an opi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304920" y="2481120"/>
            <a:ext cx="8610480" cy="2357640"/>
          </a:xfrm>
          <a:prstGeom prst="roundRect">
            <a:avLst>
              <a:gd name="adj" fmla="val 22347"/>
            </a:avLst>
          </a:prstGeom>
          <a:solidFill>
            <a:srgbClr val="fff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mpersonal expressions followed by the subjun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304920" y="3929040"/>
            <a:ext cx="8610480" cy="2166840"/>
          </a:xfrm>
          <a:prstGeom prst="roundRect">
            <a:avLst>
              <a:gd name="adj" fmla="val 22347"/>
            </a:avLst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304920" y="2986200"/>
            <a:ext cx="8610480" cy="1890720"/>
          </a:xfrm>
          <a:prstGeom prst="rect">
            <a:avLst/>
          </a:prstGeom>
          <a:solidFill>
            <a:srgbClr val="fef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989440"/>
          <a:ext cx="8610480" cy="3106440"/>
        </p:xfrm>
        <a:graphic>
          <a:graphicData uri="http://schemas.openxmlformats.org/drawingml/2006/table">
            <a:tbl>
              <a:tblPr/>
              <a:tblGrid>
                <a:gridCol w="4228920"/>
                <a:gridCol w="4381560"/>
              </a:tblGrid>
              <a:tr h="3106440">
                <a:tc>
                  <a:txBody>
                    <a:bodyPr lIns="45720" rIns="45720" tIns="228600" bIns="46800" anchor="t">
                      <a:noAutofit/>
                    </a:bodyPr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n’est pas la peine que… </a:t>
                      </a:r>
                      <a:br>
                        <a:rPr sz="1600"/>
                      </a:b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not worth the effor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bon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good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dommage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a shame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essentiel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essential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étonnant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surprising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important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</a:t>
                      </a:r>
                      <a:br>
                        <a:rPr sz="1600"/>
                      </a:b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t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 w="13680">
                      <a:solidFill>
                        <a:srgbClr val="3c68a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228600" bIns="46800" anchor="t">
                      <a:noAutofit/>
                    </a:bodyPr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indispensable que…</a:t>
                      </a:r>
                      <a:br>
                        <a:rPr sz="1600"/>
                      </a:b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essential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nécessaire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necessary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possible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possible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est surprenant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surprising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faut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must… /</a:t>
                      </a:r>
                      <a:br>
                        <a:rPr sz="1600"/>
                      </a:b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necessary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3680" indent="-349200"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vaut mieux que…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better tha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3c68a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2"/>
          <p:cNvSpPr/>
          <p:nvPr/>
        </p:nvSpPr>
        <p:spPr>
          <a:xfrm>
            <a:off x="457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and ® 2012 Vista Higher Learning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07732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-</a:t>
            </a:r>
            <a:fld id="{F2D54EB6-29C5-42CE-AD45-C421CC138E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he subjunctive: impersonal expressions; </a:t>
            </a:r>
            <a:br>
              <a:rPr sz="2100"/>
            </a:b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will, opinion, and emo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23960" y="1828800"/>
          <a:ext cx="7696080" cy="375120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514600"/>
              </a:tblGrid>
              <a:tr h="412560"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TTENTION!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e6d099"/>
                      </a:solidFill>
                    </a:lnB>
                    <a:solidFill>
                      <a:srgbClr val="ed6b4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8600" indent="-228600" algn="ctr">
                        <a:spcAft>
                          <a:spcPts val="13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ec6"/>
                    </a:solidFill>
                  </a:tcPr>
                </a:tc>
              </a:tr>
              <a:tr h="3338640">
                <a:tc gridSpan="3">
                  <a:txBody>
                    <a:bodyPr lIns="228600" rIns="228600" tIns="228600" bIns="137160" anchor="t">
                      <a:noAutofit/>
                    </a:bodyPr>
                    <a:p>
                      <a:pPr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verbs used only in the third person singular, including some used in impersonal expressions, have irregular present subjunctive forms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worth it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qu’il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il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o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necessary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qu’il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uvoir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ain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 qu’il 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u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e pense pas que ça en vaille la peine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ctr" pos="1776240"/>
                          <a:tab algn="l" pos="21686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think it’s worth the effor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28600" marR="2286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e6d099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eee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9:11:18Z</dcterms:created>
  <dc:creator>© and ® 2011 Vista Higher Learning, Inc.</dc:creator>
  <dc:description/>
  <dc:language>en-US</dc:language>
  <cp:lastModifiedBy>Ursuline Academy</cp:lastModifiedBy>
  <dcterms:modified xsi:type="dcterms:W3CDTF">2015-01-07T15:53:09Z</dcterms:modified>
  <cp:revision>168</cp:revision>
  <dc:subject>D'accord! 3 • Leçon 6: Leçon 6: Les générations qui bougent</dc:subject>
  <dc:title>6.1 The subjunctive: impersonal expressions; will, opinion, and emotion</dc:title>
</cp:coreProperties>
</file>